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42E4-A1BC-417C-8E39-053C083EB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C73B-2131-4CAF-89E2-C8D80BBD1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CA26-B3C3-4D20-B5EF-3895CA81C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55B8-3AF1-4673-87B8-9F60756E2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419F-A4D2-42D9-BF9E-7C1194D18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6586-1A2A-482B-A429-B1279FCDB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F13E-B2A7-4EC6-9706-24A58DC38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57A1-3828-4AA7-A3CC-25CE38A08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9327-ABCD-49B3-A1E1-B2FFE3B41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7186-D460-44D6-A934-C66D56CD3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0903-46B1-428B-B052-32DD76E1A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0C71-73AF-46AB-8B69-F53ECE255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5D71-F9BE-44D9-8347-18938ED84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8354-F8ED-41C4-ACBC-70796154B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7AA6-0763-4370-8FDC-814EE021F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057400" y="3238560"/>
            <a:ext cx="6705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ER RAD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EYE OR SKIN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DIRECT OR SCATTERED RA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2870280" y="5079960"/>
            <a:ext cx="3225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Nd: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1064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2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75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2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765760" y="5054760"/>
            <a:ext cx="32259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Erbium 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2940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5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8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0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257800" y="6553080"/>
            <a:ext cx="380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5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ASS 4 LASER CONTROLLED ARE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Burt Wenger</cp:lastModifiedBy>
  <cp:lastPrinted>2018-08-15T15:18:09Z</cp:lastPrinted>
  <dcterms:modified xsi:type="dcterms:W3CDTF">2018-09-11T19:45:57Z</dcterms:modified>
  <cp:revision>37</cp:revision>
  <dc:subject/>
  <dc:title>PowerPoint Presentation</dc:title>
</cp:coreProperties>
</file>